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D3A-C343-4A15-8B06-1E72E57C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246-4E82-481B-A95B-1FD05620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0BC-4896-43BE-B089-EBDE6BF7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D1D-34DA-45C4-A4C4-D6B3B97A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9E3-4D0F-47EE-8970-D1E7AAE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75C-47DF-4A0F-89EA-300482F8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542-C60B-417C-AE43-019A8CE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F71-506B-4B79-8EDF-0C9D4B4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0E8-F5B6-47F3-A35C-4E920F5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650-FF75-4DD2-8C49-F17DC01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AF5-0F02-4EA8-8AA5-0607E27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C90-C4D5-49D8-AB1C-4D5F042C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322-DE88-451A-B63C-EF31D143E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ојазност - 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абораторијске анализ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минимум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икемија наш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фил серумских липида (укупни , HDL и LDL холестерол, триглицери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краћна кисе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ункције тиреодеј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thyroid-stimulating hormone (TSH) 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ункције јет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рдиоваскуларна процена, уколико је индиков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ндокрина испитивања ако се сумња на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ushing’s syndr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обољењ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датни прегледи јетре уколико су налази ензима јетре патолошки (ултразвук, био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мнолошка испит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ретмани о којима треба разговарати са пацијен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7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m</a:t>
                      </a:r>
                      <a:r>
                        <a:rPr b="1" lang="sr-Latn-R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им струка, 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орбид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&lt; 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 &lt;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5 – 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– 3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 – 3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– измена животног ст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 - лек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- хирург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ч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мене понашања и животних нав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је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изичко вежб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рург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армаколошки трет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4749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зумна стратегија управљања болешћ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а пацијент одржи комплијансу, смањи ризике условљене гојазношћу и побољша квалитет живо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венција развоја коморбидитета (ДМ2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поручује се пацијентима са BMI ≥ 30 kg/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или BMI ≥ 27 kg/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гојазношћу условљеним обољењима ( хипертензија,  ДМ2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leep apnoe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кове користити према регистрованим индикацијама уз поштовање контраиндикациј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елотворност фармакотерапије процењивати после прва 3 месец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ко је губитак тежине задовољавајући (&lt; 5% за недијабетичне пацијенте и &gt; 3% за дијабетичне) третман настави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ретман обуставити у случају да пацијенти не реагују на терапи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кови који се кор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лис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ркасе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ентермин/топир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раглут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рлист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тентан и селективан инхибитор панкреатичне липа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дукује интестиналну дигестију м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проскрипцију од 120 mg, ОТЦ од 60 mg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а дозна облика примењена пре јела уз поштовање нутритивних препорука узрокују губитак телесне мас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: XENDOS и X-PER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екални губитак масти и гастроинтестинални симптоми су ч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же узроковати мањи губитак липосолубилних витамина, па је пожељна додатна мултивитаминска проскрипц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Лоркасер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ротонин тип 2C  рецептор агонист са хипофагним ефек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тржишту USA од 201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је 10 mg два пута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BLOOM , BLOOM-DM и BLOSS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клиничком испитивању BLOOM-DM, нивои глукозе наште и хемоглобина 1C (HbA1c) су се коригова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атистички значајна разлика није регистрована у инциденци срчане валвулопатије између лоркасерин и плацебо гр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јчешћа нежељена дејства услед примене лоркасерина су замагљен вид, вртоглавица, поспаност, гастроинтестиналне тегобе, наузе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току клиничко истраживање CAMELLIA TIMI 61 процењује улогу лоркасерина код гојазних дијабетичних пацијената на КВС риз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Фентермин/топирамат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бинација фентермина и топирамата (фармацеутски облик са продуженим ослобађањем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HEN/TPM-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е заснива на принципу синергистичког деловања, где употребом два лека се постиже делотворност при нижим дозама са мањом токсичношћ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ентермин је атипични амфетамински аналог, који врши супресију апетита норадренергичким агонистичким деловањем на ЦН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опирамат је атипични антиконвулзивни лек, једини антиепилептик који доводи до снижења телесне масе код пацијената са епилепсиј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ханизам којим топирамат доводи до снижења телесне масе је непознат, али могући механизми су; инхибиција укуса угљеном анхидразом ; или утицаји на GABA трансмисију и редукцију апет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od and Drug Administration (FDA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обрење за пуштање у промет 201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ентермин/топирама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фентермин/топирамат - 7.5 mg / 46 mg –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EQUIP, CONQUER, SEQUEL и EQUA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 услед примен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PHEN/TPM-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 сува уста, опстипација, несаница, палпитације, вртоглавица, парестезије, поремећаји пажње метаболичка ацидоза, бубрежни каменци, главобоља и дисгеузија (поремећај осета укуса), алопеција и хипокалем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нтраиндикован је за примену у трудноћи због тератогеног потенцијал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TRESS -Fetal Outcome RetrospectiveTopiRamate Exposure Stud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указала на дефект непца новорођенчади при примен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HEN/TPM-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упропион/налтрексон је комбинација два централно делујућа лека чија употреба је за ову индикацију новијег дату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упропион се користи за терапији депресије и прекида пуше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селективни је инхибитор преузимања допамина и норадренал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лтрексон је антагонист опиоидних рецептора, који се користи у третману синдрома зависности од алкохола и опиј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орексогено деловање бупропиона/налтрексона заснива се на активирањ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piomelanocortin – POM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рона 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ucleus arcua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M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рони ослобађај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-melanocyte-stimulating hormone –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MS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анорексигени неуропептид) који делује на нивоу хипоталамуса и утиче на апетит и терморегулациј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бинација лекова је одобрена FDA – 2012, European Medicinal Agency –EMA – 201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6227640" y="333360"/>
            <a:ext cx="2210040" cy="18097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perientia doc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ima de mal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176364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бупропион/налтрексон - 180 mg / 16 mg – два пута 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COR-I, , COR-II , COR-BMOD и COR-D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јчешћа нежељена дејства су наузеја (транзиторна, пролази у току прве недеље терапије). Честа нежељена дејства поред главобоље су вртоглавица, несаница и повраћање који су уједно били разлог за обустављање терап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току је истраживање за процену кардиоваскуларног ризика -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Cardiovascular Outcomes Study of Naltrexone SR/Bupropion SR in Overweight and Obese Subjects with Cardiovascular Risk Factors (The Light Study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Лираглути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угоделујућ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lukagon-like peptide 1 (GLP-1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гонист за парентералну употребу, који споро метаболиш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peptidyl peptidase-I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лукозом индуковано ослобађање инсулина је стимулисано; глукагонски одговор је редукован; утицаји на желудачно пражњењ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употреби је терапију ДМ Т2 (1,2-1,8 mg),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к је одобрен за ову индикацију FDA – 2014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uropean Medicinal Agen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EMA – 201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ује се парентерално у дози од 3 mg,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E-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E-Obes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A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и лираглутид добро поднес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ука и повраћање су пролазна нежењена деловања која дају допринос губитку телесне м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643720" y="333360"/>
            <a:ext cx="279396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Искуство је најбољи учитељ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Од зала бирај најмањ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100008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ојаз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финиција и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екс телесне 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вал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олошка регулација енергетске равнот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ошња енер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дипоцити и адипозно (масно тки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тиологија гојаз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ога гена у односу на окруж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цифични генетски синд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ндроми повезани са гојазношћ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hingov sind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отиреоид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сули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аниофарингеом и остали поремећаји који укључују хипоталам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обичне гојаз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птин у типичној гојаз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п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олецистокин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нкреасни полипепт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птид тирози-тир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укагону сличан пептид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ксинтомод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е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лошке последице гојаз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истенција на инсулин и ДМ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емећаји репрод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диоваскулар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ућ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учни камен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нц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сти, зглобови и кож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тничка припад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одична анмн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ике у исхр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чка активност (учесталост и структу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сци исхране и могући поремећаји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nge eating disorder, night eating syndrome, buli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суство депресије и других поремећаја располож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9080" y="15717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тале детерминанте (генетика, лекови, ендокрини поремећаји, психосоцијални фактори, хронични стрес, престанак пуше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ствене консеквенце гојазности (промена животног стила, медикаментно лечење, хируршке интервен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ова очекивања и мотивација за про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тходни третман гојаз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зикални пре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рење висине и тежине (ИТМ – израчунати), обим струка, артеријска тензија (адекватна манжет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цена присуства и значај гојазношћу-условљених обољења (дијабетес, хипертензија, дислипидемија, кардиоваскуларна, респираторна и обољења зглобова, неалкохолна масна јетра, поремећаји спав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суст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anthosis nigrica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знак инсулинске резистен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рматоза која се јавља на прегибним површ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виду  хиперкератозе и хиперпигмент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равне, набране површине сомотаст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же се јавити као паранеопластична дерматоза или без постојања малиг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0-08-13T10:55:43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